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085-A948-4EFA-927C-21A6096F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6714-0E5E-4B4F-A4F0-BA9A2300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EF5-CEF5-4EB8-AAC6-208DD6AD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D29-C34A-4EDC-91CC-803CE11B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CF8-55EF-45F5-A39E-A9A49965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6B1-D4FD-40B7-882F-246BCD48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955-570B-46E2-A070-6DED2D88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94F-28B6-4071-855B-2F26003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C68-6256-45AB-9557-296D83F5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08B-C1F2-4A84-9487-9B292B9A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D39-52FF-4661-9B91-D234FBDC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098-1399-4419-B646-FDDB3D7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6BF-DF12-414F-A4A9-1B829F1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6C1-2B21-4B31-88E8-D1F4EC9C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F4F-5B07-4E79-8AC8-59EAFA0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EAE-CDF0-4CE7-9C9B-994D0E8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7DD-7745-4C94-A0B0-65A21A6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80E-C13C-4685-BE70-BAEE31C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FF6-D945-4CE8-87EA-C61BDB9D00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xirregulars.org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: People, Activities, Context,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 Dim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vs. infrequent activity - e.g., twenty times a day vs. once every twenty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as pressure - does it work when absolutely necessary or under acute lo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ous vs. discrete action - one-off action vs. process, and if process, how is it represented and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and feedback - feedback provided reliably as required?  Synchronous vs. asynchro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operation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work requires cooperation with others (if so, interdependencies and bottlenecks become critical variab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d vs. vague tasks - defined can be programmed and controlled, vague requires a lot more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and 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asks are mission-critical - failure is not an option (examples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error and unintended consequence - users behave in mysterious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s of error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user education, but also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tructure and work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important in computing - physical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different people do different things in a range of environments (some of which you can’t easily cont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factors may greatly impact people, what activities they engage in, and what tools they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oors? Outdo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? Cold?  Dry? Humi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? Station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ud?  Qu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y? Cal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?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/Org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help/assist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norms of use (and their evolutio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- internal conflict between individual and collective goals? (CSCW exampl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ings that a range of diverse people use to accomplish an equally diverse range of tasks in particular contexts (getting confusing yet? It should be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as broadly defined - formalization of technique (Ellul) – we are technological beings by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in Human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well versed in particular skill sets - whether they’re trained to be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do some things extraordinarily well - and require a lot of effort to mimic human skills even partially (but when it’s done, it’s impressive – e.g., Idée too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should speak to strengths of both - esp. when electronic technologies are embedded in physical spa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i Bono?  A slice of healthy skep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definitions and its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figurative/actual - to what good purpos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literal - who benefi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is rarely the answer to all social or organizational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. in environment of thoughtless technology hype, asking this question hel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XIrregulars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xirregulars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Google Group - GTA experts in user experience design, meetups, un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involved in such groups is important for social network, internships, job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Norman design principles with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ight – another article (with some time to get responses up) and more on first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/Bad Desig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stic, interdependent relations among these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groups are rarely monolithic or homogeneous - often a range of complexity to cons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care not to overgeneralize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everyone 18-65” is a lot of people, and they’re not likely all eq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s to universal access can be considered or maintained (and is often done - examples?) but should be done with utmos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ight/weight (e.g., ergonomic iss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 and ability differences (coupled with age or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s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logical/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variety and 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, social and religious cus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styles (e.g., multiple intellig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eople have a range of abilities, skills,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ice/experienced user design choices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gular/regular users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eople want to do different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understand purpose of activity and what enables/constraints 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unintended purposes and consequences - many of which you want to design against (people have a tendency to act irrationally or counterproductive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7:18Z</dcterms:created>
  <dc:creator/>
  <dc:description/>
  <dc:language>en-US</dc:language>
  <cp:lastModifiedBy>Sheridan College</cp:lastModifiedBy>
  <dcterms:modified xsi:type="dcterms:W3CDTF">2010-01-11T16:56:16Z</dcterms:modified>
  <cp:revision>13</cp:revision>
  <dc:subject/>
  <dc:title>CCT 333: Imagining the Audience in a Wired World</dc:title>
</cp:coreProperties>
</file>